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848A6-B2E4-4A2D-AC19-B2401C874E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FD775-D22A-432D-9BF0-F81B7D60E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F4B8F-1881-4B8A-A592-5FF158559E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BEE0C-EA19-4D05-A139-90A14A72B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17F36-81CB-4B6B-B5C3-E5BAEB09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C7539-9F79-4617-A8C6-E84C3F9E09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2A05B-D09D-4114-B5F3-0CBC64273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F46AB-4399-49EA-93E8-23EF33F84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D8B61-33EC-4864-A5C4-82D78C19E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22FD3-AF21-4E64-A8F1-9E83FE927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A40F1-4BD9-4070-B701-EF3AB594D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66105-CBC3-4A54-B9CA-B350A2E77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D2C18-F922-4161-AEDA-180FBE475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EFD1C-88BD-4357-B479-AEEA78038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8F11550D-A9E1-46B4-B189-7ADFAD5E1C89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6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0.0.127.in-addr.arpa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9121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0.0.127.in-addr.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             PTR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588CC-1F87-4A3E-871C-6B2DDCEEEAC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ssembling the fil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ere's my directory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[~/DNS/apricot2003/recursive] edlewis% l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0.127.in-addr.arpa.   localhost.              named.roo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irectory name and file names will be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I create a named.conf file in the same directory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5ECB5-8E6C-45EC-8205-7B295FAEC73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d.conf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37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irectory "/Users/edlewis/DNS/apricot2003/recursive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pid-file "/Users/edlewis/DNS/apricot2003/recursive/n.pid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recursion yes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hint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named.root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localhost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localhost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0.0.127.in-addr.arpa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0.0.127.in-addr.arpa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E882C-2697-4B70-8346-F8D5103FEAB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unn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the directo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udo named -c 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4269B-AE43-4328-8429-51C9C8EB39C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9198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to show it is al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g @127.0.0.1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Courier New"/>
              </a:rPr>
              <a:t>www.arin.ne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 &lt;&lt;&gt;&gt; DiG 9.2.2rc1 &lt;&lt;&gt;&gt; @127.0.0.1 www.arin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lobal options:  printcmd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ot answer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-&gt;&gt;HEADER&lt;&lt;- opcode: QUERY, status: NOERROR, id: 1658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flags: qr rd ra; QUERY: 1, ANSWER: 2, AUTHORITY: 10, ADDITIONAL: 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STION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www.arin.net.                  IN      A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NSWER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7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6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UTHORITY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arin.net.               10800   IN      NS      arrowroot.arin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(and so on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ry time: 3066 msec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SERVER: 127.0.0.1#53(127.0.0.1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WHEN: Wed Feb 19 11:07:05 200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MSG SIZE  rcvd: 25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AF024-5D20-4A00-8BB3-F58D673D669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gratulations - Your First Server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's just the beginning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ED4D0-CE64-405D-B763-C5E2048FA7A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i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ot server 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lhos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0.0.127.in-addr.arpa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2F18B-9779-4D39-A843-F5637E7449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Used to lookup data by applic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eeds to know how to reach top of D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should stop some queri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, 127.0.0.1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i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root.hint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0.0.127.in-addr.arpa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We'll do named.conf las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95A6C-E208-4742-8EA4-4C8CC9BC9E0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oot Server Li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ist of the 13 root serve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re to get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tp rs.internic.n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onymous log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d doma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et one of these files (they are [nearly] the sam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b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roo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ED664-68D0-42FC-B882-9F4C83E3185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t looks lik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holds the information on root name servers needed to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initialize cache of Internet domain name server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(e.g. reference this file in the "cache  .  &lt;file&gt;"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configuration file of BIND domain name servers)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is made available by InterNIC 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under anonymous FTP a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file                /domain/named.cach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on server           FTP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last update:    Nov 5, 2002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related version of root zone:   200211050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formerly NS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IN  NS    A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A.ROOT-SERVERS.NET.      3600000      A     198.41.0.4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...............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housed in Japan, operated by WID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    NS    M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M.ROOT-SERVERS.NET.      3600000      A     202.12.27.3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End of Fil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EDC98-45C7-4D22-A457-85C42D976D8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You Do To This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ill include it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real networks, don't change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for learning, we will change i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2A283-ED1E-4467-B114-EC18EA347FD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opback name in operating syste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eans 127.0.0.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for this shouldn't use recur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 we will configure a file to define the localhost.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".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BE04D-C6D3-47EE-A542-15A4D83DDEB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9426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A 127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D8AB7-1675-4C78-B1AD-36BE73155C8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for 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nce we want "localhost -&gt; 127.0.0.1" we want to have "127.0.0.1 -&gt; 127.0.0.1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need a zone called 0.0.127.in-addr.arp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2AE77-AD73-4B59-A511-43083AC0756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bill manning</dc:creator>
  <dc:description/>
  <dc:language>en-US</dc:language>
  <cp:lastModifiedBy>Marmaduke Wildebeeste</cp:lastModifiedBy>
  <dcterms:modified xsi:type="dcterms:W3CDTF">2003-06-01T20:47:44Z</dcterms:modified>
  <cp:revision>46</cp:revision>
  <dc:subject/>
  <dc:title>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