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77711"/>
        <c:axId val="35471955"/>
      </c:barChart>
      <c:catAx>
        <c:axId val="84877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71955"/>
        <c:crosses val="autoZero"/>
        <c:auto val="1"/>
        <c:lblAlgn val="ctr"/>
        <c:lblOffset val="100"/>
        <c:noMultiLvlLbl val="0"/>
      </c:catAx>
      <c:valAx>
        <c:axId val="35471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77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2173-6B42-450F-B67F-96393CAB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D6E-7C31-4C7B-9E93-79E1C410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868-44CB-49A1-A9F1-06EEF866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FC1-95FD-48EA-A8FD-5050AE8C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35D-E79E-4DFA-895B-8C236041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08D-315B-4032-935A-74290DEF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0FE-CBEC-44E6-9A1B-721B4F6C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FA6-6786-4BA7-9C0C-BDB07836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714-2CC4-4BE4-BC49-72274166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1FB-E1BC-430F-8DDB-B3A166D3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023-C51B-4433-809F-049E2B59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D71-436E-4447-8D44-66BB9F56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9663B-273B-400A-88CA-74D79DB843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