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37126C-D0A9-47D5-BFE9-433190BB7D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D6F74C-D130-4A05-9C62-6990CE025D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F600A8-79CD-478C-A867-208B5C4B59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2F377B-960A-4DA2-A90D-F6BFEC4397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824EC7-1F79-4CC5-B312-DABF1FEBD7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834144-5EEC-4035-B29D-26204AF41B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898942-6E70-4BFF-864F-E29DDE6BC4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D36061-7639-4078-AFB0-A445F12AF0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F5D112-0960-492E-9ACF-623C491D8E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4EE52A-FA95-4E30-8EE4-0375EF0EAA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EA5080-6517-4326-8EED-15C666E359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61DDAB-54FD-483D-935E-0612916708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3F7091-3C4C-443F-B90D-DDED5A6EDE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74FAB9-75EC-4601-AF44-51AF6C12FB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8BAB82-7A4B-4DD5-BC1F-F935E11712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851A66-7126-4C70-B5DF-D2C4A3BB80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5C455E-B903-4D08-ADAF-B65A9BA567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868739-94A4-4726-8701-5AD95FA3AF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ACF39D-54DA-4962-AD48-9FCE2E442C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C3F3D2-3227-471D-AEA9-EF99E6A0BC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FD8AC7-4F2B-4F68-88DA-2033EA71FB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BA08A0-040D-451B-983B-05B0FDC5DF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B0DC3C-7BE1-4405-9ECD-B89862E16A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E78D7A-51A5-4ED5-9961-B9F24D9831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46A32-D80C-4EA8-A525-08A17F01570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624F4-50F1-4E57-ABFB-251952A1AC4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9E35FC6-D2DA-4B3F-BC31-02745916D10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1076573-B3FF-4965-AAC1-25915F0F430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187DBD-5E6A-44F5-A1EE-9CEF548184B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6F0EFA-690F-49DF-9785-8F19F0B19A6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564142-C4C9-480C-A69B-969736C209D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B13EC7-1F92-45A3-9771-4001EECD20C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4AB495-F62E-4B3B-903E-DE07A153F78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4E9103-1D15-44D2-8F00-384B8972EA92}"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29A7D5-BF73-4F02-A5DD-57C439AB8908}"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A2B0D0-6BFE-410C-8EBB-8C4F0BFC27C0}"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2029A8-FC3A-467D-A281-9721DD88665C}"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FD4DB1-C153-4B41-BA18-B4F6C59F63E3}"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2767E0-2E5A-4387-97AD-B01E631ADC7D}"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A679ED-7CE2-4E0A-8568-DB725701544B}"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953A5D-E619-4BEC-A364-C0FBDE875D51}"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8A4FB7-2FCD-4AF4-95D9-5B51E687A676}"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9EDDA0-F1FC-4030-9B96-2DAE3874837B}"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0C67C0-BB75-4D2A-8E2B-A31AE4E3BC85}"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0A51EB-0B76-4CDF-9619-3EB1E3C24988}"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5FCF85-F161-44DB-B1A4-D22733C81C37}"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47E177-6AC6-472B-8DF3-7DDBD4649E51}"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A9CE9C-0218-449F-AAD7-EAC61EBB9439}"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9025F2-48C4-46C3-BD4E-930C3479A742}"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FD2259-08BE-42EB-BC7C-1FFAD66FE789}"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56CFBA-A975-4A77-A7F6-F1A48AD79618}"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1698E9-7431-4F60-B40F-38ECC52AC68B}"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7A5019-C395-4204-93E8-69CE67B91C0F}"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53E6839-FBCA-47F9-9C3A-BBD01767989D}"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0FA705-D0CA-4FC2-B8B4-AA63205E71E2}"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72B375-4F38-4578-822D-306F1AF83912}"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4B9D60-7E9B-444E-8B4E-C009F318E0C7}"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84DC93-AF7E-42C2-8CF5-ECE048F67477}"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267D05-2B6E-40E8-A258-DBC7C767BB78}"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04AFAF-2EE7-49B2-B574-B9E1671BEE52}"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ABD7A2-0E45-45D1-B018-E5F35D116509}"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2D5DE3-915C-4EAB-8AB5-3020A3ED381B}"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DF90FD-4340-44D8-AAC4-A144F1BE3091}"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DF6EBB-8F4A-4AA4-B38A-B8BC68F8A3DE}"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D9F272-DDA0-4141-8C44-48FE3F92248F}"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B1DCC2-CD0C-45CB-991A-9B52774FE3F0}"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0112D2-0EF1-488D-AF34-9FDF16456098}"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639B90-5B02-48D1-A3F5-4B94780D450A}"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3C7005-CCAD-4426-B78A-7C8A8B41AE2C}"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DECE81-1A90-4D30-AA3C-726645EBED76}"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42CE22-749E-4B7B-B9F6-55D9A42D7BFD}"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41F04C-7704-4484-A3E5-76195DC67EF2}"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B65328-6B81-41B5-AB26-9A9CB0CC0059}"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E2D774-197F-4D09-89D7-BE453FCD22B7}"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5A44E59-EE7B-4424-9EC8-737A6E2C7569}"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B60531-8FEB-42CC-8282-19504EA1D256}"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C9A17D-D5EB-41E5-97E4-24DA75915B93}"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1022C32-C076-4FA2-8A52-51A978ADBB3C}"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B2F9A5-ED40-4475-B7EA-686B466CEF23}"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DF0A81-5FD3-4D6D-ACD4-ABDA55DE7E8B}"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ACD32E-1123-4546-B5BD-60C2623A2472}"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0E8437-83C8-4452-BEC4-D9496A5D2159}"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74F3C2-BFA7-43DF-9C2E-27564C11C189}"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4B456E-5857-4032-933F-5017DF371BE5}"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2248DB-8594-45BB-ABED-D01748CCAF38}"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CE34A05-1A0D-45EF-B71E-8D489EE372CA}"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B4D342-EFB7-4A20-A6F2-7AE128DCD891}"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D623D6-A131-4EAE-BD9B-A014DE08BC2D}"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0318AC-EFFD-442C-9920-96B2B9207CDF}"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39A630-5193-4856-A170-2D1DDCF9CB5D}"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8AB049-3B0C-4762-A5B5-CB612AB15C64}"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888FD4F-372A-4D9C-90EB-BD9F55B0D46C}"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8B6CBD-EF9D-491F-8A49-FB1BBFF15F63}"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B13E36-C35A-4F8C-B72C-705432FF823C}"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85C68E-CDAF-475C-A046-FDE1AAC6FA9A}"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D3C6F5-53B1-47EA-8CA2-1C00B39C605D}"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A2F9493-840D-465F-B17B-DA1F4FC7A3C7}"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CD4459-9540-45E1-9F75-30D4389EC210}"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8B2156-CD12-4DDD-8166-1F4645973689}"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51E366-99FD-4E5E-8D79-07AF15C1B7A7}"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B69577-AE2D-4115-8E52-F0A005DC6AD2}"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A6214C-B3A5-48AB-B587-F26BBA13B097}"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E19C06-85D7-4DD9-BEBA-20BE470B2AFA}"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5EDDA4C-C398-4DF6-8137-0DAB53A68E7E}"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A50203-EA65-47B0-90C2-304A02ACF9EB}"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DB2B2D-6F28-417C-937D-6BD907D1FD55}"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3FDBF4-A30C-4246-80D2-7665CFFE3F06}"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DE16A6D-D177-47A8-BB02-70CA202AD222}"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88FF28-70EF-4735-B7E7-6635DBB5B69C}"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25B1C27-90FB-42EB-822E-530FECBF3972}"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EB6BCE-5A18-4860-B491-7837F1BBE4EC}"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5DA27D-0F56-41BC-912F-911B5AE5A4E7}"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B297BA-4092-40D3-8A2F-053056573555}"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930E7D-C789-4F40-AECB-626B0B351C36}"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0337D6-6377-4A6B-89F0-D6AE5EC45A33}"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D7C534-E9E1-49AA-8E5E-AB4627925E35}"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B6CC2B-FFAE-4A73-A5E2-AE26190F27A4}"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6AB3AB-C68B-4AAC-9848-A812EA365B31}"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9D8BE7-C0C8-4CE2-9301-BCF0C6167E8F}"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C00821-D61F-41DE-8823-0A76D9910A76}"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6F8A9A-67F9-4D5B-B056-44D8B14F98EF}"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DDF446-31DC-4D4E-B916-C123C4F2F24D}"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8281DA-0C0E-415F-A81B-3F3BE2AA337F}"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0D8F21-A587-421B-9FBC-83EF6BE51D16}"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5E017D-C1C4-4DA9-8039-2EDEB9B6955C}"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BD81DFD-A5A6-4D2B-A6E5-500F133D0A4D}"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21F876-AB75-406D-A580-B90F784E5950}"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A823F9-D492-495F-81E3-01ADACB12E86}"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5B813F-4B21-4AF1-83F8-A65DE90B729E}"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FB4F57-14ED-4494-AA36-A17A4332E1EF}"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A51E0B-9A08-4912-A897-A3240ABAF8A9}"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80AF62-D439-4AE8-A103-8083D63979CF}"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D2B4A5-B67E-4434-9A9D-6A66A7497D22}"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F14AEA-8091-4603-9ABF-DE0C91758139}"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D876E1-DE4E-403A-9538-68285279F964}"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D7DC1A-B4B0-4EEA-8A2A-D3856CCC39BA}"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F2AAF3-E73F-46A9-A50D-6216E07AAA9B}"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1DBC30-3E33-4742-84BD-9CF38BB30D8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433A11-10FC-4DA5-97C1-2E20A30D67E8}"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1D99D8-2496-46DB-9F1C-5B193E8B3DC5}"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6AFDA4-B96B-43E8-9DC3-7394169E34B7}"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097087-6067-42BB-B946-AAB34710CD4D}"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C72668-FCAF-4DDB-990A-600E553A3466}"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8949A6-9984-4FCD-ADF9-E5F71D130F8F}"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D67138-6FBC-4B69-B9FF-D1CD400AEFFF}"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397970-3CAD-4B91-969E-5FB663A09FA4}"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1A63EF-53BC-4802-903D-772F1812E98B}"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E1925F-43F3-45DE-A380-6EABEACA9786}"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BC34E9-F7A3-45AE-92C5-627239C15DA2}"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B80ABF-9561-4B9E-A576-5564553B8D2A}"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B7BA70-8574-4CDE-AA23-D09100B17684}"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13DEDE-73D1-4A3E-8405-1EF4D4E7CBA4}"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1D4F12-6A36-452B-AA6A-4A1F171B36C3}"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CA5A5B6-61F5-46CB-B777-70E68FB2FED3}"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1E1D63-4565-462B-843E-1B08A100942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3F7491-8901-4D81-A985-A515367EA3D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E8E2CF-3D78-4C9C-A23F-1B2B3F9438C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B91A11-867D-42C4-A7CC-F9F68651973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8B7A2E-4742-43FC-8779-AFBEBE34405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6005B6-1AF6-4141-A91B-63B2242AE5B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334F338-6566-409E-A40A-9D2908E2E3A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A12843-4471-43D8-A2F8-B9CF65784DF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F9F8B2-0CAB-426C-B736-094B38DBE17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081212-D27E-48E5-8066-27BBDF9DE5F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056D92-5C09-4E48-8F32-B5AC608346B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B58C3D-F2E0-4F47-BFB6-E036FF161CD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B05A7B-4CC2-48CE-9AE3-5C950A7ACF2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128D17-F03A-4E26-9ED2-B85924119B6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0414CF-1037-47BE-91FC-8D2169AD358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26E2CF-B6BC-41A0-BF14-D2E6127EC6C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589CD1-F282-4F22-876B-26B8311729D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EE9D0E-7D4B-40DC-992F-4BA7F91326B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1AE73A-E6DA-403A-8043-7BC95B6CBED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E7DFA4-A78A-4686-8CDB-A59C6B84616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06FFC9-D1FF-442A-94ED-679A5B7C9F0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B19FDF-81CA-4771-BCAC-99D9986A24E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6390ED-D354-4114-873A-EE336C72092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9E2485-1349-4EDE-A5C9-915B2C96B9C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EFA99B-8865-41AC-B152-E9E6A5D949C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5E7010-213F-4009-8005-9D6789C3014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AA6FCB-0BE7-455E-AB85-6976E0C9A09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BCC5C8-4F89-403A-9CEA-B90011A8033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02BD38-2FC8-4178-BB41-7C97F9B6D6B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252259-DD77-428C-A6E6-D66CE1DBC2D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2395DF-4025-409E-B1A4-473CC91756F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2C1609-E7F0-48D5-9996-256BB07CFF0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16F9D6-B0CC-4757-A142-1E28F7B1C78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05A918-53A6-448B-B815-872FFF81265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DE5AF4-415F-409D-AC27-2CC3FFD72E5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94BD6E-395A-4F69-9D35-5935ACEF61D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742B29-22E0-412D-A453-D342939ACAD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97C594-1A87-4494-A298-C0B8863F1CD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FD1343-9233-4036-8186-4B72346A5EB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28D2D9-2850-49BF-805B-A3105F410BC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E21D8A-C4E8-40BE-8EB8-BB344CBE52A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8E5CB0-7A57-4635-930A-A827FA3B0AD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B0FBD2-F3B1-41E9-AF95-1732E8EA093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6D1910-666C-4811-9224-A2D059E6646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1D450F-E7A0-4740-A86D-0B2D98E2B43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D82683-B0D0-4D23-BFA5-32EF6D36DC1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D1A117-993F-4FA1-9675-24490236DCD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2DDFDA6-D32D-48EA-97E4-53A65EBA763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E39763-E524-4C40-A401-01E9A135D27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F46098-BC65-4115-BDD7-58D0DC4E3D1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21A99A-5331-42DA-B4AE-8A3639F4B1E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38739E-8467-4242-85AE-0D6005C35FF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FF9BB5-4F82-44B8-9252-151CA17C5A7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60DE3F-29D8-4F5B-92AB-864C4568F95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C62252-9395-4FDB-94DC-CADEE274B30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EB2DD2-BB42-4754-AF8D-262BF8D6026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7F8321C-E23D-4D8F-A321-D732186A763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C3746A-2BA2-4E31-94C0-376CEA4DED9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16920E-76C6-4F8B-83C5-E4788A0D8B3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F88909-581F-4A5E-B248-0A3CF3C703D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8ED0B4-C6A8-4166-B4C0-7A6937E7A7A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59C92A-D20A-4983-B385-4F49D63B55A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7F56C2-5477-42A6-8BBB-5BEA0153FE5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4DAF02-8FCB-4BE9-8BC8-C5095A6CC6E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AE0836-6719-4CEC-9C8B-469B5D80D67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F542A4-DA25-4C45-A134-5EA9D03CB9B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32F629-6571-496A-82BA-3B990A93F73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2685A6-85E1-465C-8AA1-0B4CEB8D5C1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6E8516-BF67-4114-BBF9-D15594B1D44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EC20DA-A725-4D20-A457-E0A4A7CB6B5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08F7DA-774B-4099-8B62-B94587D10DF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9D62AFC-4256-4C92-8F21-413878A5CA4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3391AD-8043-4E1A-841D-B4EA1C9E811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244AF3-910E-436D-AA51-1C525F13282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01AE25-F9EA-4176-9BB8-129BBC1F278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8339EB-B985-4A5D-BC5B-C7BCA484FEC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153783-30AB-4002-8F6C-014A0F87DFB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B16BB1-DEA7-4B77-8222-CA9316FC197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C1BDE9-1747-4190-B6F1-82C1B68E886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2C1DB4-F4AB-49AD-8774-F8CCF81702C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E343E9-E9FC-4F18-8E18-5C210D19E56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F71952-4D3A-417D-AD0E-0376480F76D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874E57-F96E-4143-B323-ACD185CE0E5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720FF2-917E-4122-84D5-F3D7B975880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9F4227-CFC4-4C8E-84AE-20DEBC14B29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