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CB5D2F-5999-46E7-A4D1-04D35B86A4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9320EC-A91C-4CE7-97ED-4DF6437572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B48A87-8D36-49AF-8EAA-AE9C9C44FA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84C0E5-D914-4166-B11E-0FAE988581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7B9A5F6-6D69-479C-AB20-4825FC8D075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F50AD0-CFA2-4B26-87A0-190C944D1A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444AD2-C534-4AF2-8DC2-165B1D8DA6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465170-C91F-4665-A2E1-8FD4DE0621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AA7394-6FCF-4C2A-B90C-6AA455E93F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208211-C659-4D3C-BA1C-1D6013435A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FE138F-D635-4E24-8FDB-B59AF3A72B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680AB3-CFAA-491F-A0DB-C3A719F123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3F58BF-CB64-435A-9953-2DEB011EF0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7FC6BE-C59E-46D0-BF60-91B8AA1BED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66A4F9-B836-4999-91E5-727B3C8C9A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8314932-E346-4149-BC66-2B7E729A5C8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B80EBB3-B67D-4719-BCB3-E3E7B8225A3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7D478C-0EC5-4700-A6AC-C8625543C6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487356-BA73-46B7-85DB-B3FA5655E0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9FB735-5E0D-435C-942D-E14D160552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61CFFA-5D69-4BAF-A7C3-13F141792D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065271-8D87-4416-A95F-726D54A822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5AAF34-9163-4F2A-9417-90EC891975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BE0FB9-F86A-4C17-8F7F-FCDD87C39D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35FD36-227A-4479-AF91-A4DCB1F019F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73D719-A247-4156-8CDF-2BC573CFB13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D193A81-BE31-4D8F-8F4E-221F1EF39F5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31B617C-8123-41B0-B3CA-6FA77E3DBEE7}"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61A672-D4F6-4094-A3D0-830D5ABDB196}"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BC6B01-3120-4648-A694-01E8D1F8F7CE}"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03C326-EB89-49F1-A5C1-0285B47267B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C14A41-C5E9-48AA-9A9A-EEDD4E9B66D8}"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F74C84-0CF3-41F3-A078-536607C2D3F1}"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0ECA3E-7389-483C-BC4A-F3FDA595CA2F}"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CA9D70-E47D-45A4-9CB3-0B50B121C09E}"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239E80-6FB2-45D4-99B8-C57D2AD0032D}"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20832B-3971-4552-A5BD-27082DFF5726}"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8DD839-78AC-4C3C-9000-2970A727251E}"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6A0C35-A1C7-46E7-B08D-C507F94C1EBC}"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1F8436-3493-4EEB-AEFC-B79F631F95FD}"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1D9D06-843E-4160-928D-6B2E1C968E85}"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2731B6-C720-46AD-8B3E-FA457B3DD9EE}"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76FBBC-591A-41F8-A203-1DEC1D2077E1}"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F3F8C6-D748-4643-A80E-82371C988D27}"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2CAC41-DA4F-40EE-A511-9EA36FF0B768}"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565F94-FD54-45C8-972C-E0ABAA9D1025}"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84FEA1-C4C0-4C0F-8714-4BFA5A942EF0}"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C2764C-E53D-49A5-A3F0-0E244DCE9B5D}"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384706-4DA6-45F6-A904-DA50761AF655}"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468B93-5C52-4968-A923-01B254C4B3F2}"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A5CEE2-DB9F-4B0F-98E2-9FB05199E196}"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9E1A18-C6B4-417D-90EF-20DE325F66C9}"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9A4409-9AE6-46EC-9E44-9FF8BC6ACC15}"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79F2829-FCD5-4233-802D-792DB0ADBECD}"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8B7F28-EB29-497C-8179-B0EE4F49635A}"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6AC757-509F-419B-B87C-4FF8D847C7FD}"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5E3740-A800-43E4-ADB2-B2E97738D5DE}"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4F6D46-7041-407A-B18C-DCAB7658F5B4}"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1E2983-D851-488B-ABFE-4424769861F0}"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3DEECE-9372-4B2D-BA9B-EFD17BA7A4EE}"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4F271A-4B9E-4319-AB47-E978B0982D22}"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39F1DA-75EC-4C3E-8F1B-F4ABDF120693}"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C628E0-94ED-49AA-9B17-8FFDE5DED25C}"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1340BE-942E-49E5-AA78-CDB74A5946E5}"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05AF29-E9DF-4579-93DB-C578A9DF934B}"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69FFDE-BFF3-4FEE-B57A-E2D527BC896F}"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65E240-286E-4E8E-8906-677E7AAADFAD}"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CA17AF-5E87-4C3F-857A-764B9C938334}"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56DC7B-32D4-48B1-9BBD-E8B7B129A029}"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BB3B47-D176-453C-A525-D131CEDED02D}"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A988B6-3E71-46B3-A233-3FD04DDF8AF9}"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E83205-369B-4965-B454-4E18CD90EF34}"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F5045B-CCA6-4B69-98A2-21770BD42703}"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B68CF5-3C28-4F6D-9CCC-BABF6198141E}"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3280EE3-6182-4DE5-BAFD-D3446B9DB2A5}"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3903B6-2DDA-47D9-B80E-FB4A70C44BCA}"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AB3F56-A1FD-4F20-896D-D84716BF4E61}"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E0D0D79-3758-4966-AE86-B180D3C4AD4E}"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F1B8C6-ECD2-4708-9659-32FD39A8FF27}"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E539DA-6A26-459A-927A-31803A019FF6}"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1B6CC2-CA42-4D8D-A3DE-CF1F356AEF6C}"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ACF6B5-A873-40AD-B7FF-1D891F9FD31D}"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994A34-B38B-48EE-99F2-EC1876B0A4E5}"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32A829-EB22-405F-BBE7-82FDD5376E11}"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DAC664-249F-4D4F-B6FB-ADC4BC8CDC15}"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08CB44D-D9F1-4C31-9930-C9CE319D1B1E}"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DDD557-3D5B-4E65-AECD-83AA5CF686D6}"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EAC64E-DFEE-4B6F-AA2E-2E34538963E1}"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3A817F-9D9B-4378-9AD0-FADA60A77B99}"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F375EB-188A-4888-A3B6-ACF2D8E0F5CC}"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299363-AF4E-4DB2-8ABE-5E1C9DB9EAA1}"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2E1F7A1-244C-4689-A4EF-F9F4A29B8DFB}"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9BAC9A-8E12-4CBF-AC1B-A4B6F5FA4A47}"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426B61-C349-4C46-A9D6-30461F613D29}"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80505C-8DC9-4B12-B58A-93F4217631E4}"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B32170-A12C-49D8-9EDB-E8D4A47F9539}"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44D99DD-69DF-4D86-B7F6-50AED8DF72CE}"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BA20BD-EC64-40AC-9BFD-E8126456DE98}"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703028-41F5-453F-9713-A98B9E5F9B41}"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9EBF03-AEA8-42E0-9CE0-0F7E87AB623A}"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2B32D2-AC1C-42E8-A1B5-3E77512A855E}"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5DAF5F-44C1-41EB-A69E-F5A2E36AAB77}"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D47E48-728F-41CC-8B10-8E72AC367804}"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74CAAD6-1E22-499E-8987-98E768998EA4}"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98CD5E-24BE-48A3-8911-70C5F9263A45}"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90EB19-B53F-4AFF-8E64-7A4FEA8604C3}"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D12BDA-1F31-40C6-8EA5-012189960C52}"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8065168-599D-48FB-BD4B-A773A8D660AE}"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1B2F4A-5177-4E64-AA87-8D55F7D233FD}"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C348E6C-0996-4700-9D96-BDE5E1C2A25B}"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A22BF9-574F-42BD-BD8A-EA780F9B6151}"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7059F4-616D-4795-A0B4-5961267E1917}"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698B8B-2FC1-4A5F-A0DA-FE986A2E2AE1}"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3B5658-CD03-4FBD-838A-0ED53C04335D}"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BCDB1E-1947-4B34-AF95-1B9F817E9DBA}"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C68A90-0E9C-4D1F-8C94-AA437468BFE9}"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A6856C-ED46-4DE4-A7B7-0D1E80462ECA}"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02BFCD-77AA-4EF3-8256-09207D737453}"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1B5E37-A2E0-4D9D-91CC-E1D79A7E0B92}"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3DBBD0-AA09-4410-8312-F62A4B4A524A}"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7753C9-331B-4CF4-8F2D-19DEF9AC12B6}"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5ED594-C6FC-4712-A8ED-BE0EF0DDC054}"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FFEF6E-BF32-4CC7-B380-74C7A21DA143}"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A3F3DF-49FA-49BE-9175-31B94EDC1221}"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65C920-9772-43AA-8EC1-9D54C13CB189}"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40D2A98-32C4-464B-BDA2-007733C1923D}"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D069BD-475D-4241-9261-206DB38C5CE6}"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292DB2-4433-4F88-9B16-1D57371A5F1E}"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9FE55D-CBD7-4DE3-A9D8-2064F8DAE66C}"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A77426-8348-4AD3-AE42-7F30CC620D45}"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80273A-9397-4D33-A9DD-2AFC90110C87}"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A0103C-83DE-4598-A14A-457DB8719AED}"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A82D0D-90CC-4DEE-9B1A-296DF72E55A8}"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077A04-1FBB-4982-A924-CA5747D9E987}"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A54BD9-6C7B-4A54-BECE-C81DE9B0A239}"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4E94F1-E2F4-4DAD-A4DD-A77800B2CEC8}"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A60147-FBBA-45EA-81F0-ABAA8A5AC047}"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81C4B1-C618-40E1-BB25-653F53FCEA1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3637A6-4D92-4D32-8E83-72D559CF329C}"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F4DC71-D2A0-43FA-B6EE-741B877FB04D}"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EFBFDB-5878-4499-8EF3-C0B58C2BA8AC}"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8A9AC2-09C2-4341-B363-F14302E25DD9}"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879C6A-D545-4BDC-9951-56AC91F7059B}"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398985-29C8-46BF-84A2-8047C6DDC71C}"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0B82E4-DCB2-4F76-812B-32B7EDA123F2}"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B96EFE-0D22-41A3-805A-77D36E4C31BB}"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D50A91-BDF5-4E90-8CAF-7776795E6FAF}"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10E697-4B09-4D98-A5A4-723ECF14218E}"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3FD73A-423D-4C5F-BBC4-4E03D89A3117}"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D02B42-FED5-412D-81E2-0EA71EA73A42}"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3EB525-EC3E-4A9B-9F98-9DC51A16C644}"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07D2DF-B0D2-4C52-A054-80B15A99554F}"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10DB8B-26B0-44DC-A2CB-B5C62CF3F52A}"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BA2297C-1CA5-4280-91FA-07B7D182F3A6}"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B4E523-0B3D-4DC2-A3AB-1547858BE17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E58111-0966-472F-B331-AC3C3CC8FF4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D92CE4-2176-4D27-BBA5-285C00A527A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CC180D-3257-4CE2-A467-EBDE4F3A15C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253DE7-6BD0-4693-8CE1-04FDDFE6377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7ECFD4-C1D4-449E-A1C7-66DF0BA3EF3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7058BA2-4376-422C-83CA-15D1A512EE0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53FF5B-95C9-4336-999F-AA361493164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8051B8-A6DA-418B-8140-6184336A139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053AFF-B2E5-4446-9B54-A7A62C277C2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6E2843-4340-4246-BA8B-0BC4992E809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A4263D-4AF0-4B95-9B43-5676E1664C3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75B9F7-283E-4B50-B509-60E7C914326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FC07DF-AF3D-48F9-AF6B-F0948366B4F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E29FA1-C935-4182-BFEA-61F1304F2F3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B37384-5D43-46BC-A6CC-C8AEF6105AB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5BF236-B7A3-4EBD-9C43-472DCCC6BF2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742C4A-2D22-4757-B254-2210C7C9033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1E350E-33D4-4289-8011-564D9887415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251AD9-39C2-4C4C-93A6-408E584BB0B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017026-5B01-417A-9522-B17F4FD7229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98C4B2-74A2-494A-A4F5-0A878D90900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FE9910-3682-430F-85B3-A121415FA79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22A368-950B-4364-AE5D-61FB95C42C7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DAEB46-3A6B-4E68-B668-9C7784FCD5D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5C45EB-4653-4C1F-A351-74C03AE9DD1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A63106-D818-40D2-B5ED-528CB37483C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CDFC08-4979-49DA-9DF0-49E22216C83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78B84E-7E89-4F9C-A4E8-03C9D1B3A3F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A83EF9-EB50-454F-969A-8E09326B37E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54A389-A8E5-4E77-A401-CEE7E348A51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D871C4-E1A4-4556-94F4-2EA83797CA6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9549C3-43D3-49BE-8103-AF95BCDA0A5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1A7D7A-5239-4736-B2C9-3D816CED600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255272-D8EF-47F2-979F-542C1455F5D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8DDDE6-DC53-4843-A3F2-A030968DCE9D}"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8DD45C-CBC1-4568-A509-7B4E515613F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298D65-53E1-4B63-BAE6-A5037A54710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880CFD-20C8-4BB3-8691-9E5EDA3C373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DD8DAE-9041-4EC1-9DE1-4BD25FA2D50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9669E8-DF4E-40BB-8BB1-86199CC2D468}"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068FFE-1F12-49DA-B0A6-AA47A85582C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0187EF-C97F-442B-BD85-0E7009C0E74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A5F035-9F3F-4691-92C3-BAC933CCE895}"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7817EE-F9C9-4E3C-B20C-B4FDB22F9F38}"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F83144-8AAA-44D3-AD41-7855F53A6B8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FD5849-7DAD-4C71-A386-8237EA803B4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CA05325-A435-435B-BC52-EFFCED7374B5}"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6EA792-9507-4038-9881-DAD7F5B34A3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A6D112-DD47-4987-B606-EC973F49FA53}"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E6A30B-FEE7-40DF-871B-C62EC0D9BC68}"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4B6E3C-38C6-4C45-B203-C946860A4C3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8E9BF0-042E-4901-8338-1F909054DE04}"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49702A-5C31-4F81-886E-F84F5B420412}"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9F5B0A-E2B4-4E20-9B0E-D27B61E2177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28857C-8AA5-45BA-969D-9108622B098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E9E96C4-FFE0-472F-A988-466F8E45DD0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1961D9-08A6-40C2-B732-E93ACA21391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736594-3CD3-4957-85CF-BCE01A7F40F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7FC777-7473-4D59-A9EA-E8538D9579E5}"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C518B0-A797-4A00-8BB2-0939AA42FA0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52D256-A541-4BDB-8468-F807534264ED}"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41BE59-E2BE-467C-9692-0AC41F2034EB}"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A4281F-ADA8-4D78-93B2-2E34C5A8F27E}"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25204E-EA10-4F99-8B86-E81D81C5143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6150D5-488B-46C7-843B-76B8CA44DAE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7849B1-7C2A-4E3F-9D66-A0B75F4A4381}"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F137B3-7707-470A-8854-F76C1E709537}"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76D4DA-6D88-4B7D-8166-4143786A85B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C227A5-0BBD-4397-9D9A-B034F055E777}"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552405-9E50-41B3-BFEB-B451CBAB1AA0}"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C03285F-48D1-4670-A65D-2B9DCA45A11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F1C700-B576-4BB5-B32A-DE3BB1F269A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14F3C0-3300-4B22-BEAF-7E7E25E039F8}"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96B76C-0BA9-4D67-B861-BB81BE0A2375}"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2F53CF-CD4F-4FAF-B80A-C82FB8861F8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8BA478-46BF-462F-8E8B-7277141338E6}"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9E0CD1-13CA-49FC-8CD2-85F0D75C6E92}"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1C4429-2764-4174-8F17-8287967CFC59}"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2BBFC4-ED28-4558-9E1E-75D5F1349E6A}"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2F1C0C-39D6-4EAD-A80C-A3C9498C27EE}"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1AA6EB-4DA9-4311-9874-152AB5AA73CC}"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E4B425-69F8-4532-B23E-CD06253CE037}"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D42700-8633-400C-AB8E-9CB3875397C7}"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7CC666-21D0-4FF1-91BC-9960663F9CD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