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57401"/>
        <c:axId val="23746024"/>
      </c:barChart>
      <c:catAx>
        <c:axId val="79357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46024"/>
        <c:crosses val="autoZero"/>
        <c:auto val="1"/>
        <c:lblAlgn val="ctr"/>
        <c:lblOffset val="100"/>
        <c:noMultiLvlLbl val="0"/>
      </c:catAx>
      <c:valAx>
        <c:axId val="23746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57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33C-F00D-48F1-9CD5-7B1FC7B6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A83-5348-4CE1-824D-79516988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0C7-F5B9-4737-8909-DA7F8339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04D-EA75-4331-9030-8DFC915A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0E9-290E-4051-8972-2A02F21C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2FC-60CA-40EE-9077-47DAB6D3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06D-5B2D-4D88-B9E2-C1C41B30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C0D-9F8E-497C-8128-F9DB1480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EC1-C439-40B8-B1E1-113CE2D0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598-5DBF-4BB4-8F0B-930751E6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BFC-F8B6-46A1-9DE3-8F88C5C4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DE1-B4E3-4E5E-AC39-641066AB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A4784-3F4E-46E6-BEC5-B35A7F9056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