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0161"/>
        <c:axId val="33664801"/>
      </c:barChart>
      <c:catAx>
        <c:axId val="57160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64801"/>
        <c:crosses val="autoZero"/>
        <c:auto val="1"/>
        <c:lblAlgn val="ctr"/>
        <c:lblOffset val="100"/>
        <c:noMultiLvlLbl val="0"/>
      </c:catAx>
      <c:valAx>
        <c:axId val="3366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0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E22-5624-4C39-A021-1C8F60B0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AFB-9FF4-46C0-9022-B20B30E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A53-261B-4A2C-8BD2-5E9C44E7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959-2C69-4FD8-8D5C-1D4CE2FB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626-128B-4754-9A0D-3CADC5F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FA5-9972-4644-9E5E-3B86F43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0E4-EB08-42C5-8DCC-7966A93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AF3-4D0C-4CBE-B691-4CCEDBB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752-145B-4B26-8702-09E6A98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7BF-26DD-4797-AEA1-8CAAB4A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845-482D-4656-AA5E-6F288C0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D44-CB20-4EAB-8B5A-968EB4C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19FF9-3E48-4D3E-BFD4-B554BDA7F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