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90264"/>
        <c:axId val="67416832"/>
      </c:barChart>
      <c:catAx>
        <c:axId val="30990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16832"/>
        <c:crosses val="autoZero"/>
        <c:auto val="1"/>
        <c:lblAlgn val="ctr"/>
        <c:lblOffset val="100"/>
        <c:noMultiLvlLbl val="0"/>
      </c:catAx>
      <c:valAx>
        <c:axId val="67416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90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BBD-1BF2-49CE-B135-D8EB5B6E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4CC-DC53-40F6-A80F-7D7369E1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85C-6550-4871-A0E9-91731B92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534-EDF8-4A42-9BD1-EB1C6346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05C-C56A-4B7D-B64D-06BD49FE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3E5-21B3-48F7-8AF1-728B16A6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9C3-0550-4A26-B0F9-3C3E2280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5EB-2632-4152-AB43-C5AF6ED6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9A9-840A-49AA-A7ED-0E4FE58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F98-0188-45D6-96B4-EACA2ED3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1BD-3A03-478B-B213-E2B6FC7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179-DF62-4A75-9954-52C53CEC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01217-EA00-4FE4-885E-30152BC7F6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