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98747"/>
        <c:axId val="3586326"/>
      </c:barChart>
      <c:catAx>
        <c:axId val="49198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6326"/>
        <c:crosses val="autoZero"/>
        <c:auto val="1"/>
        <c:lblAlgn val="ctr"/>
        <c:lblOffset val="100"/>
        <c:noMultiLvlLbl val="0"/>
      </c:catAx>
      <c:valAx>
        <c:axId val="35863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98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CE9D-8DE1-4AF6-B777-D581F8CF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C018-384F-42E9-BC2B-4BB5CC50C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D8A-4130-4595-9252-9B9662CA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7CB2-AFF6-4BCD-AC04-942437919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F757-618F-4A8C-9E98-961EFEB9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497-7B71-411C-89A2-61C4A29A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9EAC-0AF9-40F6-BC45-2E3095AF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CFCF-5932-4FEB-8E68-F4B0B8A6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5A27-DEF0-469D-83B5-8899B5FF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6076-5FDE-4763-A8E0-7D9CAF27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37AF-EE6B-45C1-A9C8-744A7EB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08CD-7D8C-4FE2-99F8-315DF869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1F53A-CCAF-4028-AF3F-49D4F46C4D9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