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46246"/>
        <c:axId val="74886345"/>
      </c:barChart>
      <c:catAx>
        <c:axId val="94946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6345"/>
        <c:crosses val="autoZero"/>
        <c:auto val="1"/>
        <c:lblAlgn val="ctr"/>
        <c:lblOffset val="100"/>
        <c:noMultiLvlLbl val="0"/>
      </c:catAx>
      <c:valAx>
        <c:axId val="74886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46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49C-9DBD-4A67-8EBD-D5E83B58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6DE-EEDA-4240-9BCB-63FBF69D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9E9-CA6D-43C9-B40B-2E1DFAEC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F39-BDC8-4101-B030-4236B1FD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0E7-D996-454D-8F3F-4C3A9B1A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A27-8F71-4FDD-B412-551B5B96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673-1BF5-4BFA-91A0-7550BCA4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BF0-C59C-407D-B648-781A64ED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A96-6AC7-4F35-998E-6589149B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4BD-68F4-43C2-9C27-EEDCACA1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F65-5615-4FC2-9A62-4B573435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05D-8A74-411C-A42B-5D76F1B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0B830-B8A7-4144-A4BC-F2CFDFA20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