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1703070"/>
        <c:axId val="20444112"/>
      </c:barChart>
      <c:catAx>
        <c:axId val="6170307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444112"/>
        <c:crosses val="autoZero"/>
        <c:auto val="1"/>
        <c:lblAlgn val="ctr"/>
        <c:lblOffset val="100"/>
        <c:noMultiLvlLbl val="0"/>
      </c:catAx>
      <c:valAx>
        <c:axId val="2044411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70307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87B1-97D4-4027-A129-EDC100867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579B-C408-414C-A64B-04F5461B8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7823-8E65-4196-A81D-E17B6B1D2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7E24-8B1D-4B7F-8473-382A19695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3CCB-19D2-406A-A838-F5E019DBA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B3DB-33EB-4E0C-839C-0303668DD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17CF-8081-47D9-872B-5F91590F2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19CF-2443-4AC2-8ACA-6CF18C072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4019-B1F6-47A8-A636-4D983C4CB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2505-D1AA-4C41-9EE0-977BD47E3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BF92-0D20-4FC5-978A-6F99A5A18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ACBE-5CB6-42AD-A9FA-79F77A912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E2D84F-67CD-41DC-A10E-67F77953060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