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34193"/>
        <c:axId val="63404122"/>
      </c:barChart>
      <c:catAx>
        <c:axId val="45934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04122"/>
        <c:crosses val="autoZero"/>
        <c:auto val="1"/>
        <c:lblAlgn val="ctr"/>
        <c:lblOffset val="100"/>
        <c:noMultiLvlLbl val="0"/>
      </c:catAx>
      <c:valAx>
        <c:axId val="63404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4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0A1-D878-4BC1-B182-33477425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42B-31B3-4B35-9DE4-58C265E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B87-2199-4BA0-8B37-B9202443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BAF-3E63-404D-8A4F-8584F750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F96-C12C-4DD8-B5B5-E01AD84A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4DC-4C2F-40A0-A6E4-3013C548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03A-3402-452F-BDFF-614098EC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46B-5092-4493-9ECB-B220F8EA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4E9-6B23-4A38-85A6-E35FFB01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FD0-2C8A-4B0D-AA29-DCCAA73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9E6-0966-4875-AFD5-57F3E01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8EB-6970-430B-824E-EF8B4836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ED09C-6EDB-4769-9B9C-90EE087E9D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