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38578"/>
        <c:axId val="23494988"/>
      </c:barChart>
      <c:catAx>
        <c:axId val="93238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94988"/>
        <c:crosses val="autoZero"/>
        <c:auto val="1"/>
        <c:lblAlgn val="ctr"/>
        <c:lblOffset val="100"/>
        <c:noMultiLvlLbl val="0"/>
      </c:catAx>
      <c:valAx>
        <c:axId val="234949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38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8681-99E3-42BD-9DD2-07328925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0102-EE7A-408C-A486-12D5E3BC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CCD-CA7C-4A54-A20C-DD997F06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BFD-7E8F-4714-8995-A9C0C457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67D-B470-412A-8288-C7CBF2E4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7AF-C085-4A3C-99D8-5FEE89F5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270-243E-4EA0-A3BF-E70FF315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0CC-EEA9-41B6-8190-C469CE3C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0DE-5330-49D3-A1EA-26D541BE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9FD-92A8-449A-86EC-A2C4D43E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442-20DF-4CF2-B9F9-5A8F2C69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6C4-BEE5-499E-AF43-4DF04C35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E3568-BC68-4862-BBB3-947F2239E4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