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90075"/>
        <c:axId val="64197203"/>
      </c:barChart>
      <c:catAx>
        <c:axId val="22890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7203"/>
        <c:crosses val="autoZero"/>
        <c:auto val="1"/>
        <c:lblAlgn val="ctr"/>
        <c:lblOffset val="100"/>
        <c:noMultiLvlLbl val="0"/>
      </c:catAx>
      <c:valAx>
        <c:axId val="64197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0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A01-E99A-4E0D-8A45-04DBF4F6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B88-8602-45AC-BD9E-F5E2B94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216-66D5-428D-95B3-96E483A7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A9A-F0A4-4101-AB46-30D5FE7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918-A6E7-4303-8A19-857AABD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E6F-037A-4D14-990C-E5B737EA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6C4-45EB-4BD6-A7A7-04FFEC1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23E-6380-40D9-BA3A-70DA39EF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1C1-CEAC-4630-8FCB-F8A1A2F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895-7E35-433B-8A46-BFAB684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B7A-43F8-4326-A498-7B9EEBF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161-3F86-42FA-83D6-86746F5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6D8B9-E3FD-439C-B2E2-D7A62E3BD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