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635642"/>
        <c:axId val="34740083"/>
      </c:barChart>
      <c:catAx>
        <c:axId val="496356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40083"/>
        <c:crosses val="autoZero"/>
        <c:auto val="1"/>
        <c:lblAlgn val="ctr"/>
        <c:lblOffset val="100"/>
        <c:noMultiLvlLbl val="0"/>
      </c:catAx>
      <c:valAx>
        <c:axId val="347400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356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3795-3D07-4CBF-BB97-DE81DC40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B869-6529-44DE-BCE9-344BF704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79AC-E56F-4FBA-8090-2919EDEF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3BBB-9270-4D56-8C6D-07654E72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6631-17BE-4A72-8788-4A190042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89B5-4950-4568-BE4A-006043CD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5A31-E247-4709-A998-04661A21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AF07-4BB3-4BE6-83F8-8869C70C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455A-AD29-4A08-A2CA-CF11BFB9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CED7-A0D3-48FA-B5DA-D943CCE9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BD03-7804-4D4C-8050-5FC483BF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96A0-88CF-4A34-876B-26E14389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B70C9-DBA7-4014-8835-A379BCA993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