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636232"/>
        <c:axId val="53296880"/>
      </c:barChart>
      <c:catAx>
        <c:axId val="276362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96880"/>
        <c:crosses val="autoZero"/>
        <c:auto val="1"/>
        <c:lblAlgn val="ctr"/>
        <c:lblOffset val="100"/>
        <c:noMultiLvlLbl val="0"/>
      </c:catAx>
      <c:valAx>
        <c:axId val="532968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362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CA9B-F5F4-453D-AA65-5C52D5D76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C4A7-0040-4B89-8819-B9C0A403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D7CA-3D16-474A-B4E7-FE617A65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6854-C32F-4CD7-B3B8-C49BF09B6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C748-5C99-4ED1-8C69-DFAF1955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65D5-5417-4355-B4B8-60C1A9E0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AD6A-20D5-495F-8B8E-A2C0FE40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F5E4-7E14-4155-BC89-8C9AC8BC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8CB0-9D86-4E9A-BE6F-CBFAC257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18E6-EFE6-47B2-9AA6-4817FF61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CFAD-A263-4728-98F5-6B56FAD8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0584-A428-46A3-90C8-46C1DA22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D6C482-0CA2-46D1-8D3B-56AD257FAF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