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2538"/>
        <c:axId val="28333884"/>
      </c:barChart>
      <c:catAx>
        <c:axId val="2032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3884"/>
        <c:crosses val="autoZero"/>
        <c:auto val="1"/>
        <c:lblAlgn val="ctr"/>
        <c:lblOffset val="100"/>
        <c:noMultiLvlLbl val="0"/>
      </c:catAx>
      <c:valAx>
        <c:axId val="28333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A00-1FB9-41AF-AB4C-4CBA7801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483-6CCA-454B-9044-42C6042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2E2-8E76-437A-B33C-3F1A1C8E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CEF-C171-4EE7-B3E5-BC363081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E44-0B9A-4FA4-A3FA-1122C57D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EC3-85B6-47D9-9E16-2FA56F4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FFC-6D01-4BE4-B081-0A4CA7F1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33C-141E-42A4-A04A-868F4C2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EDF-1398-4FFC-9186-DA84E1E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8FA-DC5A-4D73-B758-4A1CC82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3CB-7C51-4F9D-8333-DEC5F85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4D8-14AE-4788-B32C-41B5C12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3615C-D4A9-4704-8C78-49288C703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