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17853"/>
        <c:axId val="46953302"/>
      </c:barChart>
      <c:catAx>
        <c:axId val="2841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3302"/>
        <c:crosses val="autoZero"/>
        <c:auto val="1"/>
        <c:lblAlgn val="ctr"/>
        <c:lblOffset val="100"/>
        <c:noMultiLvlLbl val="0"/>
      </c:catAx>
      <c:valAx>
        <c:axId val="4695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1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191-F5CE-4919-ADE8-B0565045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842-86B3-4016-BE17-F658A7F3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543-EAB5-4FC9-AB1B-CDA33AEB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538-679E-45D3-A55B-74AE3283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B87-5BE3-40CA-899D-A635DBE2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318-F720-4A42-8198-03D2889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0DC-5A24-482A-98B8-844BD2D0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707-37B1-4873-89FF-7856FE5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BD2-693E-4C8C-A56A-0E6E86C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3EE-B1A9-45FB-9579-5C2896E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CC8-34DE-4DE3-8321-16D81E6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0F9-10A6-4FBA-A7D1-D606F6A2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3F93-9FDF-49C0-9893-4FE90B637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