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75956"/>
        <c:axId val="54663707"/>
      </c:barChart>
      <c:catAx>
        <c:axId val="21775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3707"/>
        <c:crosses val="autoZero"/>
        <c:auto val="1"/>
        <c:lblAlgn val="ctr"/>
        <c:lblOffset val="100"/>
        <c:noMultiLvlLbl val="0"/>
      </c:catAx>
      <c:valAx>
        <c:axId val="54663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75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877-EE90-46EE-904B-B95EE2B3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9F5-56AD-4946-B7AA-48C64CD1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ADB-C883-45FA-9277-25DE5DD9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FA3-E93C-4C0E-ADB3-CF734048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0F3-6904-4B97-9C33-A8DEE10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7F9-620B-45AA-A4AD-C654C441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F82-4270-47BB-8810-CBF77E31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232-D6F1-4F5D-B63E-CECB325E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3D3-04AE-4C9E-85E9-1F44C1F4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5DA-7631-486D-BC58-5592308B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74F-2AF2-4C0A-9121-97B1A6A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7DD-3172-4693-95C8-09669EE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6248B-8B42-4A65-8387-DA59CFE2D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